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6E8D-AEDB-46EA-BFA5-4AD0CC38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53D-EB35-4762-AB0F-3A8B0EEA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847-26D5-4A54-8AEC-107B7B6C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89A-9EBF-4861-ACD9-3D7D4ACB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99A-421C-4C18-9437-FA0DD267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9173-210B-4CA2-8674-067BC596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A62-3F59-4373-B259-8907987D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93A-012B-47B0-BADF-0221B1EE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319F-435A-4C48-9826-2C1ED5BE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0D3E-3B0C-4712-81F6-02273210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C1CC-3AAB-4133-9986-A8FB01C5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F9AC-55F4-4E88-8262-960200A6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67ED-D1AC-4BFC-9858-3084305E53C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980E-3B43-4A01-90F6-51613360965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3"/>
          <p:cNvSpPr/>
          <p:nvPr/>
        </p:nvSpPr>
        <p:spPr>
          <a:xfrm>
            <a:off x="942840" y="3168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440" y="936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6743520" cy="4789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250920" y="1682640"/>
            <a:ext cx="5526000" cy="3508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1440" y="3289320"/>
            <a:ext cx="7035840" cy="357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5"/>
          <a:stretch/>
        </p:blipFill>
        <p:spPr>
          <a:xfrm>
            <a:off x="0" y="4824360"/>
            <a:ext cx="6558120" cy="20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6"/>
          <a:stretch/>
        </p:blipFill>
        <p:spPr>
          <a:xfrm>
            <a:off x="1670040" y="1776240"/>
            <a:ext cx="3611520" cy="6142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7"/>
          <a:stretch/>
        </p:blipFill>
        <p:spPr>
          <a:xfrm>
            <a:off x="-11160" y="1628640"/>
            <a:ext cx="1087560" cy="2149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"/>
          <p:cNvPicPr/>
          <p:nvPr/>
        </p:nvPicPr>
        <p:blipFill>
          <a:blip r:embed="rId8"/>
          <a:stretch/>
        </p:blipFill>
        <p:spPr>
          <a:xfrm>
            <a:off x="0" y="-4680"/>
            <a:ext cx="9144000" cy="150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356200" y="358920"/>
            <a:ext cx="42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生健康成长教育教学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30240" y="9360"/>
            <a:ext cx="9174240" cy="6856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6743520" cy="478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50920" y="1682640"/>
            <a:ext cx="5526000" cy="350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4"/>
          <a:stretch/>
        </p:blipFill>
        <p:spPr>
          <a:xfrm>
            <a:off x="-36360" y="3274920"/>
            <a:ext cx="7035480" cy="3576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5"/>
          <a:stretch/>
        </p:blipFill>
        <p:spPr>
          <a:xfrm>
            <a:off x="-36360" y="4826160"/>
            <a:ext cx="655776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6"/>
          <a:stretch/>
        </p:blipFill>
        <p:spPr>
          <a:xfrm>
            <a:off x="-20520" y="1268280"/>
            <a:ext cx="1392120" cy="275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7"/>
          <a:stretch/>
        </p:blipFill>
        <p:spPr>
          <a:xfrm>
            <a:off x="-36360" y="-44280"/>
            <a:ext cx="9144000" cy="150156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3724560" y="36360"/>
            <a:ext cx="42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生健康成长教育教学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9320" cy="6864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6743520" cy="478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250920" y="1682640"/>
            <a:ext cx="5526000" cy="3508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4"/>
          <a:stretch/>
        </p:blipFill>
        <p:spPr>
          <a:xfrm>
            <a:off x="-7920" y="3274920"/>
            <a:ext cx="7035840" cy="3576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5"/>
          <a:stretch/>
        </p:blipFill>
        <p:spPr>
          <a:xfrm>
            <a:off x="-3240" y="4827600"/>
            <a:ext cx="6558120" cy="203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6"/>
          <a:stretch/>
        </p:blipFill>
        <p:spPr>
          <a:xfrm>
            <a:off x="-11160" y="1268280"/>
            <a:ext cx="1303560" cy="2579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"/>
          <p:cNvPicPr/>
          <p:nvPr/>
        </p:nvPicPr>
        <p:blipFill>
          <a:blip r:embed="rId7"/>
          <a:stretch/>
        </p:blipFill>
        <p:spPr>
          <a:xfrm>
            <a:off x="0" y="-520560"/>
            <a:ext cx="9144000" cy="1501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11"/>
          <p:cNvSpPr/>
          <p:nvPr/>
        </p:nvSpPr>
        <p:spPr>
          <a:xfrm>
            <a:off x="3724560" y="36360"/>
            <a:ext cx="42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生健康成长教育教学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1T06:09:52Z</dcterms:created>
  <dc:creator/>
  <dc:description/>
  <dc:language>en-US</dc:language>
  <cp:lastModifiedBy>Administrator</cp:lastModifiedBy>
  <dcterms:modified xsi:type="dcterms:W3CDTF">2017-07-21T06:11:17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60</vt:lpwstr>
  </property>
</Properties>
</file>