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4DB1-8B2E-45B1-9A1A-740CBD0A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C7CC-9AB5-4410-8457-95FCD0BF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49CE-F05C-4FDC-9F25-F47EC57F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0419-5F2A-47F7-8903-085AD061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A250-320F-4F8C-A891-E95C653A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5959-75B6-40B5-B2E0-24A09E89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BF8E-11FA-4D57-B467-B5AB9455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38D2-4400-4E30-A145-156682D5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6359-25B9-49D5-972D-2394DDD2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D872-04F3-4C6F-B91D-11EBB570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B7CF-4330-48B6-99CB-B07E7D91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3F06-FD8E-4821-8208-E65F8DD5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EA44-A04E-45B6-BD71-8A94047564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6596280" y="1285920"/>
            <a:ext cx="12776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996600" y="3519360"/>
            <a:ext cx="79020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7476840" y="1071720"/>
            <a:ext cx="667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端午及相关类别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"/>
          <p:cNvSpPr/>
          <p:nvPr/>
        </p:nvSpPr>
        <p:spPr>
          <a:xfrm>
            <a:off x="37346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1500120" y="2928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40690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635508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385776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426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1854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42120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402012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068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7121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406908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414072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38772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786040" y="4857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69267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49266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37346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214720" y="5143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50695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9266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352008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2140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5695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"/>
          <p:cNvSpPr/>
          <p:nvPr/>
        </p:nvSpPr>
        <p:spPr>
          <a:xfrm>
            <a:off x="37836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36630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428364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52837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235476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26406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380592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3714840" y="37861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421200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41407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36630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69267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16405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414072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5-15T07:37:24Z</dcterms:modified>
  <cp:revision>36</cp:revision>
  <dc:subject/>
  <dc:title>幻灯片 1</dc:title>
</cp:coreProperties>
</file>