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3B1-17D7-43B5-8689-0B2E7DE5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8F5-E3EA-4D5E-8FA9-58B1FB10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764-BF16-45FE-AE52-8BB0736E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D00-3BAA-4514-BF82-5D049EBD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160-EBFC-4355-8174-FEA909C4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DF2-E3DE-4011-A84B-A818020F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AA3-0B79-4AD2-81DE-D7E96551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0B9-B40C-4D4D-93E7-21DD84EC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36F-91F0-4C91-95C3-912C5B1E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BD6-A863-42C7-9E9E-5D8E86E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49B-CB58-4CCD-9383-6B106561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BD8-0BB3-427C-AFE4-46845B69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33AE-2369-4FB2-B4C3-92BD41EE38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14:03:06Z</dcterms:created>
  <dc:creator>WYC</dc:creator>
  <dc:description/>
  <dc:language>en-US</dc:language>
  <cp:lastModifiedBy>WYC</cp:lastModifiedBy>
  <dcterms:modified xsi:type="dcterms:W3CDTF">2015-07-14T14:03:13Z</dcterms:modified>
  <cp:revision>1</cp:revision>
  <dc:subject/>
  <dc:title>幻灯片 1</dc:title>
</cp:coreProperties>
</file>